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292-A953-45D0-AF73-F44639FE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274-F42F-4178-AFA2-34B4B8C6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47F-8A0C-40D0-A41D-E1C28337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625-39F8-4388-B11D-3D2DF819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1D6-DE41-447C-8209-7B4CDBE1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B02-0B51-4E57-96A2-88F074A2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FF3-B572-4CE2-B158-76CE90E8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7EB-EEAA-4E19-8A1A-63BF6CF7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C6A-1719-44B0-A3E4-83AA987E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369-FA54-4FFC-9698-18B4EB6B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936-413A-4EE5-BF66-B6256A9D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C87-128A-40FC-8044-A2012412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5EE5-754D-4CE0-B2CC-CC9ED1C51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rearea unui test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v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ier audio de pe Wiki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219320" y="1616040"/>
            <a:ext cx="62481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comentar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055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47Z</dcterms:created>
  <dc:creator>User</dc:creator>
  <dc:description/>
  <dc:language>en-US</dc:language>
  <cp:lastModifiedBy>User</cp:lastModifiedBy>
  <dcterms:modified xsi:type="dcterms:W3CDTF">2012-02-04T11:06:08Z</dcterms:modified>
  <cp:revision>11</cp:revision>
  <dc:subject/>
  <dc:title>Capitolul 3</dc:title>
</cp:coreProperties>
</file>